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DCD-5C1E-4CF5-9BFB-2F53A588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E6F-0B36-43DD-AF4B-A42D572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DC6-11DE-4796-9A56-E7FCF8AB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6BB-FC1B-408A-B3C6-850F9BF4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579-FA61-4CA3-AB0C-AF847399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7FE-0470-4D16-AF6F-48A1F43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05C-7B7E-4DD0-942D-511016B0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579-55EC-4CF3-BF7E-54E60225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426-0F15-47B9-B355-7441729A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0AF-3056-4058-968B-5EABD56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7D4-B1B0-413D-A217-3D4D551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43A-FB0D-4202-B251-4A55E7C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7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1745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矩形 31746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椭圆 31747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矩形 31748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矩形 31750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矩形 31751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矩形 31752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矩形 31753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矩形 31754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椭圆 31770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椭圆 31771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椭圆 31772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矩形 31775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矩形 31776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圆角矩形 31777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2E2-F75F-4139-BB21-BA8ED62F952A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3073"/>
          <p:cNvSpPr txBox="1"/>
          <p:nvPr/>
        </p:nvSpPr>
        <p:spPr>
          <a:xfrm>
            <a:off x="1116000" y="1844640"/>
            <a:ext cx="68421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/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一元一次不等式的应用</a:t>
            </a:r>
            <a:endParaRPr b="1" lang="en-US" sz="60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3313"/>
          <p:cNvSpPr txBox="1"/>
          <p:nvPr/>
        </p:nvSpPr>
        <p:spPr>
          <a:xfrm>
            <a:off x="1979640" y="1844640"/>
            <a:ext cx="46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进生活</a:t>
            </a:r>
            <a:endParaRPr b="0" lang="en-US" sz="1800" spc="-1" strike="noStrike">
              <a:ln w="0">
                <a:noFill/>
              </a:ln>
              <a:solidFill>
                <a:srgbClr val="ff5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4337"/>
          <p:cNvSpPr/>
          <p:nvPr/>
        </p:nvSpPr>
        <p:spPr>
          <a:xfrm>
            <a:off x="755640" y="620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小兰准备用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买钢笔和笔记本，每一种至少买一件。已知一支钢笔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4.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，一本笔记本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文本框 14338"/>
          <p:cNvSpPr/>
          <p:nvPr/>
        </p:nvSpPr>
        <p:spPr>
          <a:xfrm>
            <a:off x="755640" y="1484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问：如果她买了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本笔记本，则她最多还可以买多少支钢笔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文本框 14339"/>
          <p:cNvSpPr/>
          <p:nvPr/>
        </p:nvSpPr>
        <p:spPr>
          <a:xfrm>
            <a:off x="1187280" y="2349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：设她还可以买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支钢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文本框 14340"/>
          <p:cNvSpPr/>
          <p:nvPr/>
        </p:nvSpPr>
        <p:spPr>
          <a:xfrm>
            <a:off x="1403280" y="2924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.5x+3×5≤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文本框 14341"/>
          <p:cNvSpPr/>
          <p:nvPr/>
        </p:nvSpPr>
        <p:spPr>
          <a:xfrm>
            <a:off x="1187280" y="35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文本框 14342"/>
          <p:cNvSpPr/>
          <p:nvPr/>
        </p:nvSpPr>
        <p:spPr>
          <a:xfrm>
            <a:off x="1258920" y="4149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正整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文本框 14343"/>
          <p:cNvSpPr/>
          <p:nvPr/>
        </p:nvSpPr>
        <p:spPr>
          <a:xfrm>
            <a:off x="1332000" y="4724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文本框 14344"/>
          <p:cNvSpPr/>
          <p:nvPr/>
        </p:nvSpPr>
        <p:spPr>
          <a:xfrm>
            <a:off x="1187280" y="5300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她最多还可以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支钢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组合 14345"/>
          <p:cNvGrpSpPr/>
          <p:nvPr/>
        </p:nvGrpSpPr>
        <p:grpSpPr>
          <a:xfrm>
            <a:off x="3924360" y="3357720"/>
            <a:ext cx="1152000" cy="847440"/>
            <a:chOff x="3924360" y="3357720"/>
            <a:chExt cx="1152000" cy="847440"/>
          </a:xfrm>
        </p:grpSpPr>
        <p:sp>
          <p:nvSpPr>
            <p:cNvPr id="200" name="文本框 14346"/>
            <p:cNvSpPr/>
            <p:nvPr/>
          </p:nvSpPr>
          <p:spPr>
            <a:xfrm>
              <a:off x="3924360" y="35002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x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图片 14347" descr=""/>
            <p:cNvPicPr/>
            <p:nvPr/>
          </p:nvPicPr>
          <p:blipFill>
            <a:blip r:embed="rId1"/>
            <a:stretch/>
          </p:blipFill>
          <p:spPr>
            <a:xfrm>
              <a:off x="4522320" y="3357720"/>
              <a:ext cx="554040" cy="847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5361"/>
          <p:cNvSpPr/>
          <p:nvPr/>
        </p:nvSpPr>
        <p:spPr>
          <a:xfrm>
            <a:off x="82692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小兰准备用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买钢笔和笔记本，每一种至少买一件。已知一支钢笔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4.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，一本笔记本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文本框 15362"/>
          <p:cNvSpPr/>
          <p:nvPr/>
        </p:nvSpPr>
        <p:spPr>
          <a:xfrm>
            <a:off x="900000" y="1341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如果她钢笔和笔记本共买了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件，则她最多可以买多少支钢笔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文本框 15363"/>
          <p:cNvSpPr/>
          <p:nvPr/>
        </p:nvSpPr>
        <p:spPr>
          <a:xfrm>
            <a:off x="1116000" y="24922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设她可以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支钢笔，则笔记本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)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本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文本框 15364"/>
          <p:cNvSpPr/>
          <p:nvPr/>
        </p:nvSpPr>
        <p:spPr>
          <a:xfrm>
            <a:off x="1692360" y="2997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文本框 15365"/>
          <p:cNvSpPr/>
          <p:nvPr/>
        </p:nvSpPr>
        <p:spPr>
          <a:xfrm>
            <a:off x="2050920" y="3573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.5x+3×(8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) ≤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文本框 15366"/>
          <p:cNvSpPr/>
          <p:nvPr/>
        </p:nvSpPr>
        <p:spPr>
          <a:xfrm>
            <a:off x="1835280" y="4076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文本框 15367"/>
          <p:cNvSpPr/>
          <p:nvPr/>
        </p:nvSpPr>
        <p:spPr>
          <a:xfrm>
            <a:off x="5003640" y="40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≤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文本框 15368"/>
          <p:cNvSpPr/>
          <p:nvPr/>
        </p:nvSpPr>
        <p:spPr>
          <a:xfrm>
            <a:off x="1835280" y="4653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正整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文本框 15369"/>
          <p:cNvSpPr/>
          <p:nvPr/>
        </p:nvSpPr>
        <p:spPr>
          <a:xfrm>
            <a:off x="1835280" y="5157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文本框 15370"/>
          <p:cNvSpPr/>
          <p:nvPr/>
        </p:nvSpPr>
        <p:spPr>
          <a:xfrm>
            <a:off x="1476360" y="566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答：她最多可以买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支钢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15371"/>
          <p:cNvGrpSpPr/>
          <p:nvPr/>
        </p:nvGrpSpPr>
        <p:grpSpPr>
          <a:xfrm>
            <a:off x="755640" y="1197000"/>
            <a:ext cx="6769080" cy="1368360"/>
            <a:chOff x="755640" y="1197000"/>
            <a:chExt cx="6769080" cy="1368360"/>
          </a:xfrm>
        </p:grpSpPr>
        <p:sp>
          <p:nvSpPr>
            <p:cNvPr id="213" name="云形标注 15372"/>
            <p:cNvSpPr/>
            <p:nvPr/>
          </p:nvSpPr>
          <p:spPr>
            <a:xfrm>
              <a:off x="5291280" y="1197000"/>
              <a:ext cx="2233440" cy="1368360"/>
            </a:xfrm>
            <a:prstGeom prst="cloudCallout">
              <a:avLst>
                <a:gd name="adj1" fmla="val -126333"/>
                <a:gd name="adj2" fmla="val 13458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则她有多少种购买方案？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Cloud"/>
            <p:cNvSpPr/>
            <p:nvPr/>
          </p:nvSpPr>
          <p:spPr>
            <a:xfrm>
              <a:off x="755640" y="1700280"/>
              <a:ext cx="2735280" cy="720720"/>
            </a:xfrm>
            <a:custGeom>
              <a:avLst/>
              <a:gdLst/>
              <a:ahLst/>
              <a:rect l="l" t="t" r="r" b="b"/>
              <a:pathLst>
                <a:path w="21631" h="21614">
                  <a:moveTo>
                    <a:pt x="1950" y="7185"/>
                  </a:moveTo>
                  <a:cubicBezTo>
                    <a:pt x="854" y="7337"/>
                    <a:pt x="-1" y="8603"/>
                    <a:pt x="-1" y="10142"/>
                  </a:cubicBezTo>
                  <a:cubicBezTo>
                    <a:pt x="-1" y="11236"/>
                    <a:pt x="431" y="12192"/>
                    <a:pt x="1074" y="12708"/>
                  </a:cubicBezTo>
                  <a:cubicBezTo>
                    <a:pt x="709" y="13237"/>
                    <a:pt x="486" y="13948"/>
                    <a:pt x="486" y="14730"/>
                  </a:cubicBezTo>
                  <a:cubicBezTo>
                    <a:pt x="486" y="16364"/>
                    <a:pt x="1462" y="17689"/>
                    <a:pt x="2666" y="17689"/>
                  </a:cubicBezTo>
                  <a:cubicBezTo>
                    <a:pt x="2752" y="17689"/>
                    <a:pt x="2837" y="17682"/>
                    <a:pt x="2921" y="17669"/>
                  </a:cubicBezTo>
                  <a:cubicBezTo>
                    <a:pt x="3587" y="19254"/>
                    <a:pt x="4837" y="20320"/>
                    <a:pt x="6270" y="20320"/>
                  </a:cubicBezTo>
                  <a:cubicBezTo>
                    <a:pt x="6998" y="20320"/>
                    <a:pt x="7678" y="20045"/>
                    <a:pt x="8259" y="19567"/>
                  </a:cubicBezTo>
                  <a:cubicBezTo>
                    <a:pt x="8865" y="20802"/>
                    <a:pt x="9896" y="21614"/>
                    <a:pt x="11066" y="21614"/>
                  </a:cubicBezTo>
                  <a:cubicBezTo>
                    <a:pt x="12590" y="21614"/>
                    <a:pt x="13878" y="20236"/>
                    <a:pt x="14298" y="18343"/>
                  </a:cubicBezTo>
                  <a:cubicBezTo>
                    <a:pt x="14741" y="18721"/>
                    <a:pt x="15266" y="18939"/>
                    <a:pt x="15829" y="18939"/>
                  </a:cubicBezTo>
                  <a:cubicBezTo>
                    <a:pt x="17419" y="18939"/>
                    <a:pt x="18709" y="17195"/>
                    <a:pt x="18722" y="15037"/>
                  </a:cubicBezTo>
                  <a:cubicBezTo>
                    <a:pt x="20367" y="14720"/>
                    <a:pt x="21630" y="12798"/>
                    <a:pt x="21630" y="10474"/>
                  </a:cubicBezTo>
                  <a:cubicBezTo>
                    <a:pt x="21630" y="9417"/>
                    <a:pt x="21369" y="8443"/>
                    <a:pt x="20929" y="7666"/>
                  </a:cubicBezTo>
                  <a:cubicBezTo>
                    <a:pt x="21068" y="7226"/>
                    <a:pt x="21145" y="6741"/>
                    <a:pt x="21145" y="6232"/>
                  </a:cubicBezTo>
                  <a:cubicBezTo>
                    <a:pt x="21145" y="4555"/>
                    <a:pt x="20312" y="3142"/>
                    <a:pt x="19180" y="2722"/>
                  </a:cubicBezTo>
                  <a:cubicBezTo>
                    <a:pt x="18976" y="1178"/>
                    <a:pt x="17983" y="8"/>
                    <a:pt x="16789" y="8"/>
                  </a:cubicBezTo>
                  <a:cubicBezTo>
                    <a:pt x="16046" y="8"/>
                    <a:pt x="15382" y="460"/>
                    <a:pt x="14936" y="1173"/>
                  </a:cubicBezTo>
                  <a:cubicBezTo>
                    <a:pt x="14537" y="461"/>
                    <a:pt x="13908" y="2"/>
                    <a:pt x="13200" y="2"/>
                  </a:cubicBezTo>
                  <a:cubicBezTo>
                    <a:pt x="12345" y="2"/>
                    <a:pt x="11604" y="672"/>
                    <a:pt x="11246" y="1647"/>
                  </a:cubicBezTo>
                  <a:cubicBezTo>
                    <a:pt x="10765" y="1001"/>
                    <a:pt x="10104" y="602"/>
                    <a:pt x="9375" y="602"/>
                  </a:cubicBezTo>
                  <a:cubicBezTo>
                    <a:pt x="8354" y="602"/>
                    <a:pt x="7468" y="1383"/>
                    <a:pt x="7019" y="2531"/>
                  </a:cubicBezTo>
                  <a:cubicBezTo>
                    <a:pt x="6519" y="2130"/>
                    <a:pt x="5935" y="1900"/>
                    <a:pt x="5312" y="1900"/>
                  </a:cubicBezTo>
                  <a:cubicBezTo>
                    <a:pt x="3447" y="1900"/>
                    <a:pt x="1935" y="3957"/>
                    <a:pt x="1935" y="6495"/>
                  </a:cubicBezTo>
                  <a:cubicBezTo>
                    <a:pt x="1935" y="6706"/>
                    <a:pt x="1945" y="6913"/>
                    <a:pt x="1966" y="7117"/>
                  </a:cubicBezTo>
                  <a:close/>
                </a:path>
                <a:path fill="none" w="21631" h="21614">
                  <a:moveTo>
                    <a:pt x="1080" y="12690"/>
                  </a:moveTo>
                  <a:cubicBezTo>
                    <a:pt x="1402" y="12949"/>
                    <a:pt x="1778" y="13097"/>
                    <a:pt x="2178" y="13097"/>
                  </a:cubicBezTo>
                  <a:cubicBezTo>
                    <a:pt x="2235" y="13097"/>
                    <a:pt x="2292" y="13094"/>
                    <a:pt x="2348" y="13088"/>
                  </a:cubicBezTo>
                </a:path>
                <a:path fill="none" w="21631" h="21614">
                  <a:moveTo>
                    <a:pt x="2910" y="17640"/>
                  </a:moveTo>
                  <a:cubicBezTo>
                    <a:pt x="3105" y="17609"/>
                    <a:pt x="3290" y="17544"/>
                    <a:pt x="3465" y="17450"/>
                  </a:cubicBezTo>
                </a:path>
                <a:path fill="none" w="21631" h="21614">
                  <a:moveTo>
                    <a:pt x="7905" y="18675"/>
                  </a:moveTo>
                  <a:cubicBezTo>
                    <a:pt x="7993" y="18984"/>
                    <a:pt x="8105" y="19275"/>
                    <a:pt x="8238" y="19546"/>
                  </a:cubicBezTo>
                </a:path>
                <a:path fill="none" w="21631" h="21614">
                  <a:moveTo>
                    <a:pt x="14280" y="18330"/>
                  </a:moveTo>
                  <a:cubicBezTo>
                    <a:pt x="14349" y="18025"/>
                    <a:pt x="14394" y="17705"/>
                    <a:pt x="14414" y="17375"/>
                  </a:cubicBezTo>
                </a:path>
                <a:path fill="none" w="21631" h="21614">
                  <a:moveTo>
                    <a:pt x="18690" y="15045"/>
                  </a:moveTo>
                  <a:cubicBezTo>
                    <a:pt x="18690" y="15034"/>
                    <a:pt x="18690" y="15024"/>
                    <a:pt x="18690" y="15013"/>
                  </a:cubicBezTo>
                  <a:cubicBezTo>
                    <a:pt x="18690" y="13459"/>
                    <a:pt x="18027" y="12115"/>
                    <a:pt x="17065" y="11476"/>
                  </a:cubicBezTo>
                </a:path>
                <a:path fill="none" w="21631" h="21614">
                  <a:moveTo>
                    <a:pt x="20175" y="9015"/>
                  </a:moveTo>
                  <a:cubicBezTo>
                    <a:pt x="20486" y="8654"/>
                    <a:pt x="20736" y="8197"/>
                    <a:pt x="20900" y="7678"/>
                  </a:cubicBezTo>
                </a:path>
                <a:path fill="none" w="21631" h="21614">
                  <a:moveTo>
                    <a:pt x="19200" y="3345"/>
                  </a:moveTo>
                  <a:cubicBezTo>
                    <a:pt x="19200" y="3329"/>
                    <a:pt x="19200" y="3313"/>
                    <a:pt x="19200" y="3297"/>
                  </a:cubicBezTo>
                  <a:cubicBezTo>
                    <a:pt x="19200" y="3097"/>
                    <a:pt x="19187" y="2901"/>
                    <a:pt x="19162" y="2711"/>
                  </a:cubicBezTo>
                </a:path>
                <a:path fill="none" w="21631" h="21614">
                  <a:moveTo>
                    <a:pt x="14910" y="1170"/>
                  </a:moveTo>
                  <a:cubicBezTo>
                    <a:pt x="14759" y="1412"/>
                    <a:pt x="14634" y="1683"/>
                    <a:pt x="14539" y="1976"/>
                  </a:cubicBezTo>
                </a:path>
                <a:path fill="none" w="21631" h="21614">
                  <a:moveTo>
                    <a:pt x="11250" y="1665"/>
                  </a:moveTo>
                  <a:cubicBezTo>
                    <a:pt x="11169" y="1882"/>
                    <a:pt x="11108" y="2115"/>
                    <a:pt x="11069" y="2360"/>
                  </a:cubicBezTo>
                </a:path>
                <a:path fill="none" w="21631" h="21614">
                  <a:moveTo>
                    <a:pt x="7650" y="3270"/>
                  </a:moveTo>
                  <a:cubicBezTo>
                    <a:pt x="7455" y="3011"/>
                    <a:pt x="7237" y="2784"/>
                    <a:pt x="7001" y="2595"/>
                  </a:cubicBezTo>
                </a:path>
                <a:path fill="none" w="21631" h="21614">
                  <a:moveTo>
                    <a:pt x="1950" y="7185"/>
                  </a:moveTo>
                  <a:cubicBezTo>
                    <a:pt x="1974" y="7430"/>
                    <a:pt x="2012" y="7667"/>
                    <a:pt x="2063" y="7896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组合 15374"/>
          <p:cNvGrpSpPr/>
          <p:nvPr/>
        </p:nvGrpSpPr>
        <p:grpSpPr>
          <a:xfrm>
            <a:off x="1619280" y="4437000"/>
            <a:ext cx="3240000" cy="1335240"/>
            <a:chOff x="1619280" y="4437000"/>
            <a:chExt cx="3240000" cy="1335240"/>
          </a:xfrm>
        </p:grpSpPr>
        <p:sp>
          <p:nvSpPr>
            <p:cNvPr id="216" name="Cloud"/>
            <p:cNvSpPr/>
            <p:nvPr/>
          </p:nvSpPr>
          <p:spPr>
            <a:xfrm>
              <a:off x="1619280" y="4437000"/>
              <a:ext cx="3240000" cy="1335240"/>
            </a:xfrm>
            <a:custGeom>
              <a:avLst/>
              <a:gdLst/>
              <a:ahLst/>
              <a:rect l="l" t="t" r="r" b="b"/>
              <a:pathLst>
                <a:path w="21631" h="21614">
                  <a:moveTo>
                    <a:pt x="1950" y="7185"/>
                  </a:moveTo>
                  <a:cubicBezTo>
                    <a:pt x="854" y="7337"/>
                    <a:pt x="-1" y="8603"/>
                    <a:pt x="-1" y="10142"/>
                  </a:cubicBezTo>
                  <a:cubicBezTo>
                    <a:pt x="-1" y="11236"/>
                    <a:pt x="431" y="12192"/>
                    <a:pt x="1074" y="12708"/>
                  </a:cubicBezTo>
                  <a:cubicBezTo>
                    <a:pt x="709" y="13237"/>
                    <a:pt x="486" y="13948"/>
                    <a:pt x="486" y="14730"/>
                  </a:cubicBezTo>
                  <a:cubicBezTo>
                    <a:pt x="486" y="16364"/>
                    <a:pt x="1462" y="17689"/>
                    <a:pt x="2666" y="17689"/>
                  </a:cubicBezTo>
                  <a:cubicBezTo>
                    <a:pt x="2752" y="17689"/>
                    <a:pt x="2837" y="17682"/>
                    <a:pt x="2921" y="17669"/>
                  </a:cubicBezTo>
                  <a:cubicBezTo>
                    <a:pt x="3587" y="19254"/>
                    <a:pt x="4837" y="20320"/>
                    <a:pt x="6270" y="20320"/>
                  </a:cubicBezTo>
                  <a:cubicBezTo>
                    <a:pt x="6998" y="20320"/>
                    <a:pt x="7678" y="20045"/>
                    <a:pt x="8259" y="19567"/>
                  </a:cubicBezTo>
                  <a:cubicBezTo>
                    <a:pt x="8865" y="20802"/>
                    <a:pt x="9896" y="21614"/>
                    <a:pt x="11066" y="21614"/>
                  </a:cubicBezTo>
                  <a:cubicBezTo>
                    <a:pt x="12590" y="21614"/>
                    <a:pt x="13878" y="20236"/>
                    <a:pt x="14298" y="18343"/>
                  </a:cubicBezTo>
                  <a:cubicBezTo>
                    <a:pt x="14741" y="18721"/>
                    <a:pt x="15266" y="18939"/>
                    <a:pt x="15829" y="18939"/>
                  </a:cubicBezTo>
                  <a:cubicBezTo>
                    <a:pt x="17419" y="18939"/>
                    <a:pt x="18709" y="17195"/>
                    <a:pt x="18722" y="15037"/>
                  </a:cubicBezTo>
                  <a:cubicBezTo>
                    <a:pt x="20367" y="14720"/>
                    <a:pt x="21630" y="12798"/>
                    <a:pt x="21630" y="10474"/>
                  </a:cubicBezTo>
                  <a:cubicBezTo>
                    <a:pt x="21630" y="9417"/>
                    <a:pt x="21369" y="8443"/>
                    <a:pt x="20929" y="7666"/>
                  </a:cubicBezTo>
                  <a:cubicBezTo>
                    <a:pt x="21068" y="7226"/>
                    <a:pt x="21145" y="6741"/>
                    <a:pt x="21145" y="6232"/>
                  </a:cubicBezTo>
                  <a:cubicBezTo>
                    <a:pt x="21145" y="4555"/>
                    <a:pt x="20312" y="3142"/>
                    <a:pt x="19180" y="2722"/>
                  </a:cubicBezTo>
                  <a:cubicBezTo>
                    <a:pt x="18976" y="1178"/>
                    <a:pt x="17983" y="8"/>
                    <a:pt x="16789" y="8"/>
                  </a:cubicBezTo>
                  <a:cubicBezTo>
                    <a:pt x="16046" y="8"/>
                    <a:pt x="15382" y="460"/>
                    <a:pt x="14936" y="1173"/>
                  </a:cubicBezTo>
                  <a:cubicBezTo>
                    <a:pt x="14537" y="461"/>
                    <a:pt x="13908" y="2"/>
                    <a:pt x="13200" y="2"/>
                  </a:cubicBezTo>
                  <a:cubicBezTo>
                    <a:pt x="12345" y="2"/>
                    <a:pt x="11604" y="672"/>
                    <a:pt x="11246" y="1647"/>
                  </a:cubicBezTo>
                  <a:cubicBezTo>
                    <a:pt x="10765" y="1001"/>
                    <a:pt x="10104" y="602"/>
                    <a:pt x="9375" y="602"/>
                  </a:cubicBezTo>
                  <a:cubicBezTo>
                    <a:pt x="8354" y="602"/>
                    <a:pt x="7468" y="1383"/>
                    <a:pt x="7019" y="2531"/>
                  </a:cubicBezTo>
                  <a:cubicBezTo>
                    <a:pt x="6519" y="2130"/>
                    <a:pt x="5935" y="1900"/>
                    <a:pt x="5312" y="1900"/>
                  </a:cubicBezTo>
                  <a:cubicBezTo>
                    <a:pt x="3447" y="1900"/>
                    <a:pt x="1935" y="3957"/>
                    <a:pt x="1935" y="6495"/>
                  </a:cubicBezTo>
                  <a:cubicBezTo>
                    <a:pt x="1935" y="6706"/>
                    <a:pt x="1945" y="6913"/>
                    <a:pt x="1966" y="7117"/>
                  </a:cubicBezTo>
                  <a:close/>
                </a:path>
                <a:path fill="none" w="21631" h="21614">
                  <a:moveTo>
                    <a:pt x="1080" y="12690"/>
                  </a:moveTo>
                  <a:cubicBezTo>
                    <a:pt x="1402" y="12949"/>
                    <a:pt x="1778" y="13097"/>
                    <a:pt x="2178" y="13097"/>
                  </a:cubicBezTo>
                  <a:cubicBezTo>
                    <a:pt x="2235" y="13097"/>
                    <a:pt x="2292" y="13094"/>
                    <a:pt x="2348" y="13088"/>
                  </a:cubicBezTo>
                </a:path>
                <a:path fill="none" w="21631" h="21614">
                  <a:moveTo>
                    <a:pt x="2910" y="17640"/>
                  </a:moveTo>
                  <a:cubicBezTo>
                    <a:pt x="3105" y="17609"/>
                    <a:pt x="3290" y="17544"/>
                    <a:pt x="3465" y="17450"/>
                  </a:cubicBezTo>
                </a:path>
                <a:path fill="none" w="21631" h="21614">
                  <a:moveTo>
                    <a:pt x="7905" y="18675"/>
                  </a:moveTo>
                  <a:cubicBezTo>
                    <a:pt x="7993" y="18984"/>
                    <a:pt x="8105" y="19275"/>
                    <a:pt x="8238" y="19546"/>
                  </a:cubicBezTo>
                </a:path>
                <a:path fill="none" w="21631" h="21614">
                  <a:moveTo>
                    <a:pt x="14280" y="18330"/>
                  </a:moveTo>
                  <a:cubicBezTo>
                    <a:pt x="14349" y="18025"/>
                    <a:pt x="14394" y="17705"/>
                    <a:pt x="14414" y="17375"/>
                  </a:cubicBezTo>
                </a:path>
                <a:path fill="none" w="21631" h="21614">
                  <a:moveTo>
                    <a:pt x="18690" y="15045"/>
                  </a:moveTo>
                  <a:cubicBezTo>
                    <a:pt x="18690" y="15034"/>
                    <a:pt x="18690" y="15024"/>
                    <a:pt x="18690" y="15013"/>
                  </a:cubicBezTo>
                  <a:cubicBezTo>
                    <a:pt x="18690" y="13459"/>
                    <a:pt x="18027" y="12115"/>
                    <a:pt x="17065" y="11476"/>
                  </a:cubicBezTo>
                </a:path>
                <a:path fill="none" w="21631" h="21614">
                  <a:moveTo>
                    <a:pt x="20175" y="9015"/>
                  </a:moveTo>
                  <a:cubicBezTo>
                    <a:pt x="20486" y="8654"/>
                    <a:pt x="20736" y="8197"/>
                    <a:pt x="20900" y="7678"/>
                  </a:cubicBezTo>
                </a:path>
                <a:path fill="none" w="21631" h="21614">
                  <a:moveTo>
                    <a:pt x="19200" y="3345"/>
                  </a:moveTo>
                  <a:cubicBezTo>
                    <a:pt x="19200" y="3329"/>
                    <a:pt x="19200" y="3313"/>
                    <a:pt x="19200" y="3297"/>
                  </a:cubicBezTo>
                  <a:cubicBezTo>
                    <a:pt x="19200" y="3097"/>
                    <a:pt x="19187" y="2901"/>
                    <a:pt x="19162" y="2711"/>
                  </a:cubicBezTo>
                </a:path>
                <a:path fill="none" w="21631" h="21614">
                  <a:moveTo>
                    <a:pt x="14910" y="1170"/>
                  </a:moveTo>
                  <a:cubicBezTo>
                    <a:pt x="14759" y="1412"/>
                    <a:pt x="14634" y="1683"/>
                    <a:pt x="14539" y="1976"/>
                  </a:cubicBezTo>
                </a:path>
                <a:path fill="none" w="21631" h="21614">
                  <a:moveTo>
                    <a:pt x="11250" y="1665"/>
                  </a:moveTo>
                  <a:cubicBezTo>
                    <a:pt x="11169" y="1882"/>
                    <a:pt x="11108" y="2115"/>
                    <a:pt x="11069" y="2360"/>
                  </a:cubicBezTo>
                </a:path>
                <a:path fill="none" w="21631" h="21614">
                  <a:moveTo>
                    <a:pt x="7650" y="3270"/>
                  </a:moveTo>
                  <a:cubicBezTo>
                    <a:pt x="7455" y="3011"/>
                    <a:pt x="7237" y="2784"/>
                    <a:pt x="7001" y="2595"/>
                  </a:cubicBezTo>
                </a:path>
                <a:path fill="none" w="21631" h="21614">
                  <a:moveTo>
                    <a:pt x="1950" y="7185"/>
                  </a:moveTo>
                  <a:cubicBezTo>
                    <a:pt x="1974" y="7430"/>
                    <a:pt x="2012" y="7667"/>
                    <a:pt x="2063" y="7896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文本框 15376"/>
            <p:cNvSpPr/>
            <p:nvPr/>
          </p:nvSpPr>
          <p:spPr>
            <a:xfrm>
              <a:off x="2050920" y="45082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为正整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15377"/>
            <p:cNvSpPr/>
            <p:nvPr/>
          </p:nvSpPr>
          <p:spPr>
            <a:xfrm>
              <a:off x="1763640" y="508464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∴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=4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组合 15378"/>
          <p:cNvGrpSpPr/>
          <p:nvPr/>
        </p:nvGrpSpPr>
        <p:grpSpPr>
          <a:xfrm>
            <a:off x="4643280" y="4292640"/>
            <a:ext cx="4105440" cy="1655640"/>
            <a:chOff x="4643280" y="4292640"/>
            <a:chExt cx="4105440" cy="1655640"/>
          </a:xfrm>
        </p:grpSpPr>
        <p:sp>
          <p:nvSpPr>
            <p:cNvPr id="220" name="云形标注 15379"/>
            <p:cNvSpPr/>
            <p:nvPr/>
          </p:nvSpPr>
          <p:spPr>
            <a:xfrm>
              <a:off x="4643280" y="4292640"/>
              <a:ext cx="4032360" cy="1655640"/>
            </a:xfrm>
            <a:prstGeom prst="cloudCallout">
              <a:avLst>
                <a:gd name="adj1" fmla="val -43740"/>
                <a:gd name="adj2" fmla="val 62175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文本框 15380"/>
            <p:cNvSpPr/>
            <p:nvPr/>
          </p:nvSpPr>
          <p:spPr>
            <a:xfrm>
              <a:off x="4859280" y="4579920"/>
              <a:ext cx="388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答：小兰有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种购买方案：①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②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③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④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动作按钮: 前进或下一项 15381"/>
          <p:cNvSpPr/>
          <p:nvPr/>
        </p:nvSpPr>
        <p:spPr>
          <a:xfrm>
            <a:off x="395280" y="6093000"/>
            <a:ext cx="1008000" cy="28872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44" h="21600">
                <a:moveTo>
                  <a:pt x="0" y="0"/>
                </a:moveTo>
                <a:lnTo>
                  <a:pt x="75344" y="0"/>
                </a:lnTo>
                <a:lnTo>
                  <a:pt x="75344" y="21600"/>
                </a:lnTo>
                <a:lnTo>
                  <a:pt x="0" y="21600"/>
                </a:lnTo>
                <a:close/>
              </a:path>
              <a:path fill="lightenLess" w="75344" h="21600">
                <a:moveTo>
                  <a:pt x="0" y="0"/>
                </a:moveTo>
                <a:lnTo>
                  <a:pt x="75344" y="0"/>
                </a:lnTo>
                <a:lnTo>
                  <a:pt x="73944" y="1400"/>
                </a:lnTo>
                <a:lnTo>
                  <a:pt x="1400" y="1400"/>
                </a:lnTo>
                <a:close/>
              </a:path>
              <a:path fill="darken" w="75344" h="21600">
                <a:moveTo>
                  <a:pt x="75344" y="0"/>
                </a:moveTo>
                <a:lnTo>
                  <a:pt x="75344" y="21600"/>
                </a:lnTo>
                <a:lnTo>
                  <a:pt x="73944" y="20200"/>
                </a:lnTo>
                <a:lnTo>
                  <a:pt x="73944" y="1400"/>
                </a:lnTo>
                <a:close/>
              </a:path>
              <a:path fill="darkenLess" w="75344" h="21600">
                <a:moveTo>
                  <a:pt x="75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4" y="20200"/>
                </a:lnTo>
                <a:close/>
              </a:path>
              <a:path fill="lighten" w="75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44" h="21600">
                <a:moveTo>
                  <a:pt x="30666" y="3794"/>
                </a:moveTo>
                <a:lnTo>
                  <a:pt x="44679" y="10800"/>
                </a:lnTo>
                <a:lnTo>
                  <a:pt x="3066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16385"/>
          <p:cNvSpPr/>
          <p:nvPr/>
        </p:nvSpPr>
        <p:spPr>
          <a:xfrm>
            <a:off x="900000" y="1628640"/>
            <a:ext cx="66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某人问一位老师，他所教的班有多少名学生，老师说：“一半的学生在学数学，四分之一的学生在学音乐，七分之一的学生在学外语，还剩不足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位同学在操场上踢足球”。求这个班共有多少名学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7409"/>
          <p:cNvSpPr/>
          <p:nvPr/>
        </p:nvSpPr>
        <p:spPr>
          <a:xfrm>
            <a:off x="755640" y="62064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图片 17410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056360" cy="119880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7411"/>
          <p:cNvSpPr/>
          <p:nvPr/>
        </p:nvSpPr>
        <p:spPr>
          <a:xfrm>
            <a:off x="1476360" y="2708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得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文本框 17412"/>
          <p:cNvSpPr/>
          <p:nvPr/>
        </p:nvSpPr>
        <p:spPr>
          <a:xfrm>
            <a:off x="971640" y="371628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17413"/>
          <p:cNvSpPr/>
          <p:nvPr/>
        </p:nvSpPr>
        <p:spPr>
          <a:xfrm>
            <a:off x="1692360" y="4941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∴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文本框 17414"/>
          <p:cNvSpPr/>
          <p:nvPr/>
        </p:nvSpPr>
        <p:spPr>
          <a:xfrm>
            <a:off x="900000" y="981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这个班有学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。根据题意，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组合 17415"/>
          <p:cNvGrpSpPr/>
          <p:nvPr/>
        </p:nvGrpSpPr>
        <p:grpSpPr>
          <a:xfrm>
            <a:off x="1604880" y="3500280"/>
            <a:ext cx="6783120" cy="1066680"/>
            <a:chOff x="1604880" y="3500280"/>
            <a:chExt cx="6783120" cy="1066680"/>
          </a:xfrm>
        </p:grpSpPr>
        <p:sp>
          <p:nvSpPr>
            <p:cNvPr id="231" name="文本框 17416"/>
            <p:cNvSpPr/>
            <p:nvPr/>
          </p:nvSpPr>
          <p:spPr>
            <a:xfrm>
              <a:off x="5076720" y="386064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是正整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图片 17417" descr="未命名"/>
            <p:cNvPicPr/>
            <p:nvPr/>
          </p:nvPicPr>
          <p:blipFill>
            <a:blip r:embed="rId2"/>
            <a:stretch/>
          </p:blipFill>
          <p:spPr>
            <a:xfrm>
              <a:off x="2268360" y="3500280"/>
              <a:ext cx="26859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矩形 17418"/>
            <p:cNvSpPr/>
            <p:nvPr/>
          </p:nvSpPr>
          <p:spPr>
            <a:xfrm>
              <a:off x="1604880" y="38606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文本框 17419"/>
          <p:cNvSpPr/>
          <p:nvPr/>
        </p:nvSpPr>
        <p:spPr>
          <a:xfrm>
            <a:off x="1042920" y="5661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这个班共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学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动作按钮: 前进或下一项 17420"/>
          <p:cNvSpPr/>
          <p:nvPr/>
        </p:nvSpPr>
        <p:spPr>
          <a:xfrm>
            <a:off x="6372360" y="5734080"/>
            <a:ext cx="1728720" cy="5745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962" h="21600">
                <a:moveTo>
                  <a:pt x="0" y="0"/>
                </a:moveTo>
                <a:lnTo>
                  <a:pt x="64962" y="0"/>
                </a:lnTo>
                <a:lnTo>
                  <a:pt x="64962" y="21600"/>
                </a:lnTo>
                <a:lnTo>
                  <a:pt x="0" y="21600"/>
                </a:lnTo>
                <a:close/>
              </a:path>
              <a:path fill="lightenLess" w="64962" h="21600">
                <a:moveTo>
                  <a:pt x="0" y="0"/>
                </a:moveTo>
                <a:lnTo>
                  <a:pt x="64962" y="0"/>
                </a:lnTo>
                <a:lnTo>
                  <a:pt x="63562" y="1400"/>
                </a:lnTo>
                <a:lnTo>
                  <a:pt x="1400" y="1400"/>
                </a:lnTo>
                <a:close/>
              </a:path>
              <a:path fill="darken" w="64962" h="21600">
                <a:moveTo>
                  <a:pt x="64962" y="0"/>
                </a:moveTo>
                <a:lnTo>
                  <a:pt x="64962" y="21600"/>
                </a:lnTo>
                <a:lnTo>
                  <a:pt x="63562" y="20200"/>
                </a:lnTo>
                <a:lnTo>
                  <a:pt x="63562" y="1400"/>
                </a:lnTo>
                <a:close/>
              </a:path>
              <a:path fill="darkenLess" w="64962" h="21600">
                <a:moveTo>
                  <a:pt x="64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62" y="20200"/>
                </a:lnTo>
                <a:close/>
              </a:path>
              <a:path fill="lighten" w="64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62" h="21600">
                <a:moveTo>
                  <a:pt x="25475" y="3794"/>
                </a:moveTo>
                <a:lnTo>
                  <a:pt x="39488" y="10800"/>
                </a:lnTo>
                <a:lnTo>
                  <a:pt x="25475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18433"/>
          <p:cNvSpPr/>
          <p:nvPr/>
        </p:nvSpPr>
        <p:spPr>
          <a:xfrm>
            <a:off x="1042920" y="765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一组学生到校门口拍一张合影，已知冲一张底片需要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0.6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元，洗一张照片需要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0.4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元，每人都要得到一张照片，每人分担的钱不能超过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0.5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元。那么参加合影的同学至少有几人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文本框 18434"/>
          <p:cNvSpPr/>
          <p:nvPr/>
        </p:nvSpPr>
        <p:spPr>
          <a:xfrm>
            <a:off x="1258920" y="2492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：设参加合影的人数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文本框 18435"/>
          <p:cNvSpPr/>
          <p:nvPr/>
        </p:nvSpPr>
        <p:spPr>
          <a:xfrm>
            <a:off x="1835280" y="3573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6+0.4x≤0.5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文本框 18436"/>
          <p:cNvSpPr/>
          <p:nvPr/>
        </p:nvSpPr>
        <p:spPr>
          <a:xfrm>
            <a:off x="176364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这个不等式得：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≥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文本框 18437"/>
          <p:cNvSpPr/>
          <p:nvPr/>
        </p:nvSpPr>
        <p:spPr>
          <a:xfrm>
            <a:off x="1258920" y="4941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答：参加合影的至少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文本框 18438"/>
          <p:cNvSpPr/>
          <p:nvPr/>
        </p:nvSpPr>
        <p:spPr>
          <a:xfrm>
            <a:off x="1835280" y="299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由题意可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动作按钮: 前进或下一项 18439"/>
          <p:cNvSpPr/>
          <p:nvPr/>
        </p:nvSpPr>
        <p:spPr>
          <a:xfrm>
            <a:off x="6659640" y="5734080"/>
            <a:ext cx="1512720" cy="5032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93" h="21600">
                <a:moveTo>
                  <a:pt x="0" y="0"/>
                </a:moveTo>
                <a:lnTo>
                  <a:pt x="64893" y="0"/>
                </a:lnTo>
                <a:lnTo>
                  <a:pt x="64893" y="21600"/>
                </a:lnTo>
                <a:lnTo>
                  <a:pt x="0" y="21600"/>
                </a:lnTo>
                <a:close/>
              </a:path>
              <a:path fill="lightenLess" w="64893" h="21600">
                <a:moveTo>
                  <a:pt x="0" y="0"/>
                </a:moveTo>
                <a:lnTo>
                  <a:pt x="64893" y="0"/>
                </a:lnTo>
                <a:lnTo>
                  <a:pt x="63493" y="1400"/>
                </a:lnTo>
                <a:lnTo>
                  <a:pt x="1400" y="1400"/>
                </a:lnTo>
                <a:close/>
              </a:path>
              <a:path fill="darken" w="64893" h="21600">
                <a:moveTo>
                  <a:pt x="64893" y="0"/>
                </a:moveTo>
                <a:lnTo>
                  <a:pt x="64893" y="21600"/>
                </a:lnTo>
                <a:lnTo>
                  <a:pt x="63493" y="20200"/>
                </a:lnTo>
                <a:lnTo>
                  <a:pt x="63493" y="1400"/>
                </a:lnTo>
                <a:close/>
              </a:path>
              <a:path fill="darkenLess" w="64893" h="21600">
                <a:moveTo>
                  <a:pt x="6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3" y="20200"/>
                </a:lnTo>
                <a:close/>
              </a:path>
              <a:path fill="lighten" w="6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93" h="21600">
                <a:moveTo>
                  <a:pt x="25440" y="3794"/>
                </a:moveTo>
                <a:lnTo>
                  <a:pt x="39453" y="10800"/>
                </a:lnTo>
                <a:lnTo>
                  <a:pt x="2544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9457"/>
          <p:cNvSpPr/>
          <p:nvPr/>
        </p:nvSpPr>
        <p:spPr>
          <a:xfrm>
            <a:off x="684360" y="692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菜农，每人可种甲种蔬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亩或乙种蔬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亩，已知甲种蔬菜每亩可收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万元，乙种蔬菜每亩可收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万元，要使总收入不低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.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万元，则最多只能安排多少名菜农种甲种蔬菜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文本框 19458"/>
          <p:cNvSpPr/>
          <p:nvPr/>
        </p:nvSpPr>
        <p:spPr>
          <a:xfrm>
            <a:off x="1332000" y="2492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设安排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名菜农种甲种蔬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文本框 19459"/>
          <p:cNvSpPr/>
          <p:nvPr/>
        </p:nvSpPr>
        <p:spPr>
          <a:xfrm>
            <a:off x="1908000" y="3068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文本框 19460"/>
          <p:cNvSpPr/>
          <p:nvPr/>
        </p:nvSpPr>
        <p:spPr>
          <a:xfrm>
            <a:off x="2050920" y="3645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×0.5x+2×0.8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≥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5.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文本框 19461"/>
          <p:cNvSpPr/>
          <p:nvPr/>
        </p:nvSpPr>
        <p:spPr>
          <a:xfrm>
            <a:off x="1835280" y="4365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文本框 19462"/>
          <p:cNvSpPr/>
          <p:nvPr/>
        </p:nvSpPr>
        <p:spPr>
          <a:xfrm>
            <a:off x="2700360" y="501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≤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文本框 19463"/>
          <p:cNvSpPr/>
          <p:nvPr/>
        </p:nvSpPr>
        <p:spPr>
          <a:xfrm>
            <a:off x="1332000" y="558972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最多只能安排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名菜农种甲种蔬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20481"/>
          <p:cNvSpPr txBox="1"/>
          <p:nvPr/>
        </p:nvSpPr>
        <p:spPr>
          <a:xfrm>
            <a:off x="2050920" y="404640"/>
            <a:ext cx="4608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谈谈你的收获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21505" descr="兰花1"/>
          <p:cNvPicPr/>
          <p:nvPr/>
        </p:nvPicPr>
        <p:blipFill>
          <a:blip r:embed="rId1"/>
          <a:stretch/>
        </p:blipFill>
        <p:spPr>
          <a:xfrm>
            <a:off x="0" y="5211720"/>
            <a:ext cx="2362320" cy="16462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21506" descr="吊兰1"/>
          <p:cNvPicPr/>
          <p:nvPr/>
        </p:nvPicPr>
        <p:blipFill>
          <a:blip r:embed="rId2"/>
          <a:stretch/>
        </p:blipFill>
        <p:spPr>
          <a:xfrm>
            <a:off x="7174080" y="76320"/>
            <a:ext cx="1665000" cy="1752480"/>
          </a:xfrm>
          <a:prstGeom prst="rect">
            <a:avLst/>
          </a:prstGeom>
          <a:ln w="0">
            <a:noFill/>
          </a:ln>
        </p:spPr>
      </p:pic>
      <p:sp>
        <p:nvSpPr>
          <p:cNvPr id="253" name="矩形 21507"/>
          <p:cNvSpPr/>
          <p:nvPr/>
        </p:nvSpPr>
        <p:spPr>
          <a:xfrm>
            <a:off x="179280" y="1484280"/>
            <a:ext cx="3024360" cy="151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矩形 21508"/>
          <p:cNvSpPr/>
          <p:nvPr/>
        </p:nvSpPr>
        <p:spPr>
          <a:xfrm>
            <a:off x="5334120" y="4343400"/>
            <a:ext cx="2819160" cy="110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的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不等式的解集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矩形 21509"/>
          <p:cNvSpPr/>
          <p:nvPr/>
        </p:nvSpPr>
        <p:spPr>
          <a:xfrm>
            <a:off x="684360" y="4191120"/>
            <a:ext cx="273528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解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矩形 21510"/>
          <p:cNvSpPr/>
          <p:nvPr/>
        </p:nvSpPr>
        <p:spPr>
          <a:xfrm>
            <a:off x="5076720" y="1773360"/>
            <a:ext cx="3382920" cy="135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一元一次不等式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直接连接符 21511"/>
          <p:cNvSpPr/>
          <p:nvPr/>
        </p:nvSpPr>
        <p:spPr>
          <a:xfrm>
            <a:off x="2050920" y="2997360"/>
            <a:ext cx="0" cy="1143000"/>
          </a:xfrm>
          <a:prstGeom prst="line">
            <a:avLst/>
          </a:prstGeom>
          <a:ln cap="rnd" w="47520">
            <a:solidFill>
              <a:srgbClr val="ffff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组合 21512"/>
          <p:cNvGrpSpPr/>
          <p:nvPr/>
        </p:nvGrpSpPr>
        <p:grpSpPr>
          <a:xfrm>
            <a:off x="3352680" y="2174760"/>
            <a:ext cx="1523880" cy="339840"/>
            <a:chOff x="3352680" y="2174760"/>
            <a:chExt cx="1523880" cy="339840"/>
          </a:xfrm>
        </p:grpSpPr>
        <p:sp>
          <p:nvSpPr>
            <p:cNvPr id="259" name="直接连接符 21513"/>
            <p:cNvSpPr/>
            <p:nvPr/>
          </p:nvSpPr>
          <p:spPr>
            <a:xfrm>
              <a:off x="3352680" y="25146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文本框 21514"/>
            <p:cNvSpPr/>
            <p:nvPr/>
          </p:nvSpPr>
          <p:spPr>
            <a:xfrm>
              <a:off x="3962160" y="2174760"/>
              <a:ext cx="184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组合 21515"/>
          <p:cNvGrpSpPr/>
          <p:nvPr/>
        </p:nvGrpSpPr>
        <p:grpSpPr>
          <a:xfrm>
            <a:off x="6705720" y="3200400"/>
            <a:ext cx="755640" cy="1066680"/>
            <a:chOff x="6705720" y="3200400"/>
            <a:chExt cx="755640" cy="1066680"/>
          </a:xfrm>
        </p:grpSpPr>
        <p:sp>
          <p:nvSpPr>
            <p:cNvPr id="262" name="直接连接符 21516"/>
            <p:cNvSpPr/>
            <p:nvPr/>
          </p:nvSpPr>
          <p:spPr>
            <a:xfrm>
              <a:off x="6705720" y="3200400"/>
              <a:ext cx="0" cy="106668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文本框 21517"/>
            <p:cNvSpPr/>
            <p:nvPr/>
          </p:nvSpPr>
          <p:spPr>
            <a:xfrm>
              <a:off x="7277400" y="3505320"/>
              <a:ext cx="1839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组合 21518"/>
          <p:cNvGrpSpPr/>
          <p:nvPr/>
        </p:nvGrpSpPr>
        <p:grpSpPr>
          <a:xfrm>
            <a:off x="3563640" y="4292640"/>
            <a:ext cx="1523880" cy="414360"/>
            <a:chOff x="3563640" y="4292640"/>
            <a:chExt cx="1523880" cy="414360"/>
          </a:xfrm>
        </p:grpSpPr>
        <p:sp>
          <p:nvSpPr>
            <p:cNvPr id="265" name="直接连接符 21519"/>
            <p:cNvSpPr/>
            <p:nvPr/>
          </p:nvSpPr>
          <p:spPr>
            <a:xfrm flipH="1">
              <a:off x="3563640" y="47070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文本框 21520"/>
            <p:cNvSpPr/>
            <p:nvPr/>
          </p:nvSpPr>
          <p:spPr>
            <a:xfrm>
              <a:off x="4152240" y="4292640"/>
              <a:ext cx="455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00"/>
                  </a:solidFill>
                  <a:latin typeface="Arial"/>
                  <a:ea typeface="楷体_GB2312"/>
                </a:rPr>
                <a:t>检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右弧形箭头 21521"/>
          <p:cNvSpPr/>
          <p:nvPr/>
        </p:nvSpPr>
        <p:spPr>
          <a:xfrm>
            <a:off x="3200400" y="2666880"/>
            <a:ext cx="2057400" cy="198144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396720 h 1981440"/>
              <a:gd name="textAreaBottom" fmla="*/ 144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2671395"/>
                <a:lnTo>
                  <a:pt x="8149" y="20961"/>
                </a:lnTo>
                <a:lnTo>
                  <a:pt x="0" y="18675"/>
                </a:lnTo>
                <a:lnTo>
                  <a:pt x="8149" y="15111"/>
                </a:lnTo>
                <a:lnTo>
                  <a:pt x="8149" y="16669"/>
                </a:lnTo>
                <a:arcTo wR="21600" hR="8654" stAng="2671395" swAng="-2451365"/>
                <a:lnTo>
                  <a:pt x="21329" y="10021"/>
                </a:lnTo>
                <a:arcTo wR="21600" hR="8654" stAng="-220030" swAng="-5179970"/>
                <a:close/>
              </a:path>
              <a:path fill="darkenLess"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-220030"/>
                <a:lnTo>
                  <a:pt x="21329" y="10021"/>
                </a:lnTo>
                <a:arcTo wR="21600" hR="8654" stAng="-220030" swAng="-5179970"/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文本框 21522"/>
          <p:cNvSpPr/>
          <p:nvPr/>
        </p:nvSpPr>
        <p:spPr>
          <a:xfrm>
            <a:off x="3276720" y="1916280"/>
            <a:ext cx="151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设未知数，列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文本框 21523"/>
          <p:cNvSpPr/>
          <p:nvPr/>
        </p:nvSpPr>
        <p:spPr>
          <a:xfrm>
            <a:off x="6635160" y="3141720"/>
            <a:ext cx="673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解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矩形 21524"/>
          <p:cNvSpPr/>
          <p:nvPr/>
        </p:nvSpPr>
        <p:spPr>
          <a:xfrm>
            <a:off x="179280" y="170028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包含不等关系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矩形 21525"/>
          <p:cNvSpPr/>
          <p:nvPr/>
        </p:nvSpPr>
        <p:spPr>
          <a:xfrm>
            <a:off x="3802320" y="5753160"/>
            <a:ext cx="3655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不等式解实际问题时，要注意对未知数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限制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文本框 21526"/>
          <p:cNvSpPr/>
          <p:nvPr/>
        </p:nvSpPr>
        <p:spPr>
          <a:xfrm>
            <a:off x="1547640" y="5805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2529"/>
          <p:cNvSpPr txBox="1"/>
          <p:nvPr/>
        </p:nvSpPr>
        <p:spPr>
          <a:xfrm>
            <a:off x="3348000" y="83664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作业</a:t>
            </a:r>
            <a:endParaRPr b="0" lang="en-US" sz="66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4" name="文本框 22530"/>
          <p:cNvSpPr/>
          <p:nvPr/>
        </p:nvSpPr>
        <p:spPr>
          <a:xfrm>
            <a:off x="1258920" y="2997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本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135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页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云形标注 4097"/>
          <p:cNvSpPr/>
          <p:nvPr/>
        </p:nvSpPr>
        <p:spPr>
          <a:xfrm rot="11517600">
            <a:off x="2268360" y="620280"/>
            <a:ext cx="2416320" cy="1150920"/>
          </a:xfrm>
          <a:prstGeom prst="cloudCallout">
            <a:avLst>
              <a:gd name="adj1" fmla="val -111722"/>
              <a:gd name="adj2" fmla="val -76222"/>
            </a:avLst>
          </a:pr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文本框 4098"/>
          <p:cNvSpPr/>
          <p:nvPr/>
        </p:nvSpPr>
        <p:spPr>
          <a:xfrm>
            <a:off x="2411280" y="9079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热身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文本框 4099"/>
          <p:cNvSpPr/>
          <p:nvPr/>
        </p:nvSpPr>
        <p:spPr>
          <a:xfrm>
            <a:off x="395280" y="213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根据下列条件求正整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框 4100"/>
          <p:cNvSpPr/>
          <p:nvPr/>
        </p:nvSpPr>
        <p:spPr>
          <a:xfrm>
            <a:off x="284328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4101"/>
          <p:cNvSpPr/>
          <p:nvPr/>
        </p:nvSpPr>
        <p:spPr>
          <a:xfrm>
            <a:off x="399564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=1,2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文本框 4102"/>
          <p:cNvSpPr/>
          <p:nvPr/>
        </p:nvSpPr>
        <p:spPr>
          <a:xfrm>
            <a:off x="68436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+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4103"/>
          <p:cNvSpPr/>
          <p:nvPr/>
        </p:nvSpPr>
        <p:spPr>
          <a:xfrm>
            <a:off x="684360" y="39337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x+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4104"/>
          <p:cNvGrpSpPr/>
          <p:nvPr/>
        </p:nvGrpSpPr>
        <p:grpSpPr>
          <a:xfrm>
            <a:off x="3059280" y="3645000"/>
            <a:ext cx="934560" cy="910800"/>
            <a:chOff x="3059280" y="3645000"/>
            <a:chExt cx="934560" cy="910800"/>
          </a:xfrm>
        </p:grpSpPr>
        <p:sp>
          <p:nvSpPr>
            <p:cNvPr id="85" name="文本框 4105"/>
            <p:cNvSpPr/>
            <p:nvPr/>
          </p:nvSpPr>
          <p:spPr>
            <a:xfrm>
              <a:off x="3059280" y="3900960"/>
              <a:ext cx="8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" name="图片 4106" descr=""/>
            <p:cNvPicPr/>
            <p:nvPr/>
          </p:nvPicPr>
          <p:blipFill>
            <a:blip r:embed="rId1"/>
            <a:stretch/>
          </p:blipFill>
          <p:spPr>
            <a:xfrm>
              <a:off x="3535560" y="3645000"/>
              <a:ext cx="458280" cy="91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文本框 4107"/>
          <p:cNvSpPr/>
          <p:nvPr/>
        </p:nvSpPr>
        <p:spPr>
          <a:xfrm>
            <a:off x="428472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=1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图片 4108" descr="懒羊羊12"/>
          <p:cNvPicPr/>
          <p:nvPr/>
        </p:nvPicPr>
        <p:blipFill>
          <a:blip r:embed="rId2"/>
          <a:stretch/>
        </p:blipFill>
        <p:spPr>
          <a:xfrm>
            <a:off x="5724360" y="189000"/>
            <a:ext cx="3229200" cy="39243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109"/>
          <p:cNvSpPr/>
          <p:nvPr/>
        </p:nvSpPr>
        <p:spPr>
          <a:xfrm>
            <a:off x="611280" y="465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求式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+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的值不小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值的最大整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4110"/>
          <p:cNvSpPr/>
          <p:nvPr/>
        </p:nvSpPr>
        <p:spPr>
          <a:xfrm>
            <a:off x="1042920" y="522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+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≥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4111"/>
          <p:cNvSpPr/>
          <p:nvPr/>
        </p:nvSpPr>
        <p:spPr>
          <a:xfrm>
            <a:off x="4427640" y="5229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≤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文本框 4112"/>
          <p:cNvSpPr/>
          <p:nvPr/>
        </p:nvSpPr>
        <p:spPr>
          <a:xfrm>
            <a:off x="1042920" y="5805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最大整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6145"/>
          <p:cNvGrpSpPr/>
          <p:nvPr/>
        </p:nvGrpSpPr>
        <p:grpSpPr>
          <a:xfrm>
            <a:off x="179280" y="4941720"/>
            <a:ext cx="6697800" cy="459720"/>
            <a:chOff x="179280" y="4941720"/>
            <a:chExt cx="6697800" cy="459720"/>
          </a:xfrm>
        </p:grpSpPr>
        <p:sp>
          <p:nvSpPr>
            <p:cNvPr id="94" name="文本框 6146"/>
            <p:cNvSpPr/>
            <p:nvPr/>
          </p:nvSpPr>
          <p:spPr>
            <a:xfrm>
              <a:off x="179280" y="494172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3)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羊历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516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年是          年，全年有多少天？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直接连接符 6147"/>
            <p:cNvSpPr/>
            <p:nvPr/>
          </p:nvSpPr>
          <p:spPr>
            <a:xfrm>
              <a:off x="2627280" y="5373360"/>
              <a:ext cx="720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文本框 6148"/>
          <p:cNvSpPr/>
          <p:nvPr/>
        </p:nvSpPr>
        <p:spPr>
          <a:xfrm>
            <a:off x="611280" y="620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以上）的天数与全年天数之比达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如果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这样的比值要超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那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空气质量良好的天数要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至少增加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6149"/>
          <p:cNvSpPr/>
          <p:nvPr/>
        </p:nvSpPr>
        <p:spPr>
          <a:xfrm>
            <a:off x="179280" y="2133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以上）的天数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文本框 6150"/>
          <p:cNvSpPr/>
          <p:nvPr/>
        </p:nvSpPr>
        <p:spPr>
          <a:xfrm>
            <a:off x="2771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6151"/>
          <p:cNvSpPr/>
          <p:nvPr/>
        </p:nvSpPr>
        <p:spPr>
          <a:xfrm>
            <a:off x="179280" y="357336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增加的空气质量良好的天数，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以上）的天数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文本框 6152"/>
          <p:cNvSpPr/>
          <p:nvPr/>
        </p:nvSpPr>
        <p:spPr>
          <a:xfrm>
            <a:off x="179280" y="551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有关的哪个代数式的值应超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？这个代数式表示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图片 6153" descr="羊羊告诉你"/>
          <p:cNvPicPr/>
          <p:nvPr/>
        </p:nvPicPr>
        <p:blipFill>
          <a:blip r:embed="rId1"/>
          <a:stretch/>
        </p:blipFill>
        <p:spPr>
          <a:xfrm>
            <a:off x="7524720" y="2421000"/>
            <a:ext cx="1033560" cy="123012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6154"/>
          <p:cNvGrpSpPr/>
          <p:nvPr/>
        </p:nvGrpSpPr>
        <p:grpSpPr>
          <a:xfrm>
            <a:off x="3348000" y="2565000"/>
            <a:ext cx="3959280" cy="955800"/>
            <a:chOff x="3348000" y="2565000"/>
            <a:chExt cx="3959280" cy="955800"/>
          </a:xfrm>
        </p:grpSpPr>
        <p:sp>
          <p:nvSpPr>
            <p:cNvPr id="103" name="云形标注 6155"/>
            <p:cNvSpPr/>
            <p:nvPr/>
          </p:nvSpPr>
          <p:spPr>
            <a:xfrm rot="10800000">
              <a:off x="3348000" y="2565000"/>
              <a:ext cx="3959280" cy="955800"/>
            </a:xfrm>
            <a:prstGeom prst="cloudCallout">
              <a:avLst>
                <a:gd name="adj1" fmla="val -41462"/>
                <a:gd name="adj2" fmla="val -6481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文本框 6156"/>
            <p:cNvSpPr/>
            <p:nvPr/>
          </p:nvSpPr>
          <p:spPr>
            <a:xfrm>
              <a:off x="3708360" y="2781360"/>
              <a:ext cx="33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我们划定平年闰年的标准跟你们人类一样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文本框 6157"/>
          <p:cNvSpPr/>
          <p:nvPr/>
        </p:nvSpPr>
        <p:spPr>
          <a:xfrm>
            <a:off x="971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5×5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文本框 6158"/>
          <p:cNvSpPr/>
          <p:nvPr/>
        </p:nvSpPr>
        <p:spPr>
          <a:xfrm>
            <a:off x="658800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6159"/>
          <p:cNvSpPr/>
          <p:nvPr/>
        </p:nvSpPr>
        <p:spPr>
          <a:xfrm>
            <a:off x="2411280" y="4365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5×5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组合 6160"/>
          <p:cNvGrpSpPr/>
          <p:nvPr/>
        </p:nvGrpSpPr>
        <p:grpSpPr>
          <a:xfrm>
            <a:off x="6516720" y="5373720"/>
            <a:ext cx="1943280" cy="963000"/>
            <a:chOff x="6516720" y="5373720"/>
            <a:chExt cx="1943280" cy="963000"/>
          </a:xfrm>
        </p:grpSpPr>
        <p:sp>
          <p:nvSpPr>
            <p:cNvPr id="109" name="矩形 6161"/>
            <p:cNvSpPr/>
            <p:nvPr/>
          </p:nvSpPr>
          <p:spPr>
            <a:xfrm>
              <a:off x="6583320" y="5373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X+365×5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组合 6162"/>
            <p:cNvGrpSpPr/>
            <p:nvPr/>
          </p:nvGrpSpPr>
          <p:grpSpPr>
            <a:xfrm>
              <a:off x="6516720" y="5877000"/>
              <a:ext cx="1943280" cy="459720"/>
              <a:chOff x="6516720" y="5877000"/>
              <a:chExt cx="1943280" cy="459720"/>
            </a:xfrm>
          </p:grpSpPr>
          <p:sp>
            <p:nvSpPr>
              <p:cNvPr id="111" name="矩形 6163"/>
              <p:cNvSpPr/>
              <p:nvPr/>
            </p:nvSpPr>
            <p:spPr>
              <a:xfrm>
                <a:off x="7095600" y="587700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36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直接连接符 6164"/>
              <p:cNvSpPr/>
              <p:nvPr/>
            </p:nvSpPr>
            <p:spPr>
              <a:xfrm>
                <a:off x="6516720" y="5877000"/>
                <a:ext cx="19432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"/>
                            </p:stCondLst>
                            <p:childTnLst>
                              <p:par>
                                <p:cTn id="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1"/>
                            </p:stCondLst>
                            <p:childTnLst>
                              <p:par>
                                <p:cTn id="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7169"/>
          <p:cNvSpPr/>
          <p:nvPr/>
        </p:nvSpPr>
        <p:spPr>
          <a:xfrm>
            <a:off x="1116000" y="2421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文本框 7170"/>
          <p:cNvSpPr/>
          <p:nvPr/>
        </p:nvSpPr>
        <p:spPr>
          <a:xfrm>
            <a:off x="611280" y="112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）以上的天数与全年天数之比达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%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这样的比值要超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那么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空气质量良好的天数要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至少增加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文本框 7171"/>
          <p:cNvSpPr/>
          <p:nvPr/>
        </p:nvSpPr>
        <p:spPr>
          <a:xfrm>
            <a:off x="468360" y="2708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羊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空气质量良好的天数比羊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增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7172"/>
          <p:cNvSpPr/>
          <p:nvPr/>
        </p:nvSpPr>
        <p:spPr>
          <a:xfrm>
            <a:off x="53964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组合 7173"/>
          <p:cNvGrpSpPr/>
          <p:nvPr/>
        </p:nvGrpSpPr>
        <p:grpSpPr>
          <a:xfrm>
            <a:off x="2700360" y="3357720"/>
            <a:ext cx="2087640" cy="962640"/>
            <a:chOff x="2700360" y="3357720"/>
            <a:chExt cx="2087640" cy="962640"/>
          </a:xfrm>
        </p:grpSpPr>
        <p:sp>
          <p:nvSpPr>
            <p:cNvPr id="118" name="文本框 7174"/>
            <p:cNvSpPr/>
            <p:nvPr/>
          </p:nvSpPr>
          <p:spPr>
            <a:xfrm>
              <a:off x="2700360" y="33577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+365×5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组合 7175"/>
            <p:cNvGrpSpPr/>
            <p:nvPr/>
          </p:nvGrpSpPr>
          <p:grpSpPr>
            <a:xfrm>
              <a:off x="2843280" y="3860640"/>
              <a:ext cx="1512720" cy="459720"/>
              <a:chOff x="2843280" y="3860640"/>
              <a:chExt cx="1512720" cy="459720"/>
            </a:xfrm>
          </p:grpSpPr>
          <p:sp>
            <p:nvSpPr>
              <p:cNvPr id="120" name="直接连接符 7176"/>
              <p:cNvSpPr/>
              <p:nvPr/>
            </p:nvSpPr>
            <p:spPr>
              <a:xfrm>
                <a:off x="2843280" y="38606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文本框 7177"/>
              <p:cNvSpPr/>
              <p:nvPr/>
            </p:nvSpPr>
            <p:spPr>
              <a:xfrm>
                <a:off x="3203640" y="38606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6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文本框 7178"/>
          <p:cNvSpPr/>
          <p:nvPr/>
        </p:nvSpPr>
        <p:spPr>
          <a:xfrm>
            <a:off x="4716360" y="3716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文本框 7179"/>
          <p:cNvSpPr/>
          <p:nvPr/>
        </p:nvSpPr>
        <p:spPr>
          <a:xfrm>
            <a:off x="1042920" y="443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7180"/>
          <p:cNvSpPr/>
          <p:nvPr/>
        </p:nvSpPr>
        <p:spPr>
          <a:xfrm>
            <a:off x="1619280" y="501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正整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得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≥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7181"/>
          <p:cNvSpPr/>
          <p:nvPr/>
        </p:nvSpPr>
        <p:spPr>
          <a:xfrm>
            <a:off x="395280" y="551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羊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空气质量良好的天数要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至少增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，才能使这一年空气良好的天数超过全年天数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7182"/>
          <p:cNvSpPr/>
          <p:nvPr/>
        </p:nvSpPr>
        <p:spPr>
          <a:xfrm>
            <a:off x="3924360" y="443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5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8193" descr="兰花1"/>
          <p:cNvPicPr/>
          <p:nvPr/>
        </p:nvPicPr>
        <p:blipFill>
          <a:blip r:embed="rId1"/>
          <a:stretch/>
        </p:blipFill>
        <p:spPr>
          <a:xfrm>
            <a:off x="0" y="5211720"/>
            <a:ext cx="2362320" cy="1646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8194" descr="吊兰1"/>
          <p:cNvPicPr/>
          <p:nvPr/>
        </p:nvPicPr>
        <p:blipFill>
          <a:blip r:embed="rId2"/>
          <a:stretch/>
        </p:blipFill>
        <p:spPr>
          <a:xfrm>
            <a:off x="7174080" y="76320"/>
            <a:ext cx="1665000" cy="1752480"/>
          </a:xfrm>
          <a:prstGeom prst="rect">
            <a:avLst/>
          </a:prstGeom>
          <a:ln w="0">
            <a:noFill/>
          </a:ln>
        </p:spPr>
      </p:pic>
      <p:sp>
        <p:nvSpPr>
          <p:cNvPr id="129" name="矩形 8195"/>
          <p:cNvSpPr/>
          <p:nvPr/>
        </p:nvSpPr>
        <p:spPr>
          <a:xfrm>
            <a:off x="179280" y="1484280"/>
            <a:ext cx="3024360" cy="151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8196"/>
          <p:cNvSpPr/>
          <p:nvPr/>
        </p:nvSpPr>
        <p:spPr>
          <a:xfrm>
            <a:off x="5334120" y="4343400"/>
            <a:ext cx="2819160" cy="110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的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不等式的解集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8197"/>
          <p:cNvSpPr/>
          <p:nvPr/>
        </p:nvSpPr>
        <p:spPr>
          <a:xfrm>
            <a:off x="684360" y="4191120"/>
            <a:ext cx="273528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解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8198"/>
          <p:cNvSpPr/>
          <p:nvPr/>
        </p:nvSpPr>
        <p:spPr>
          <a:xfrm>
            <a:off x="5076720" y="1773360"/>
            <a:ext cx="3382920" cy="135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一元一次不等式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直接连接符 8199"/>
          <p:cNvSpPr/>
          <p:nvPr/>
        </p:nvSpPr>
        <p:spPr>
          <a:xfrm>
            <a:off x="2050920" y="2997360"/>
            <a:ext cx="0" cy="1143000"/>
          </a:xfrm>
          <a:prstGeom prst="line">
            <a:avLst/>
          </a:prstGeom>
          <a:ln cap="rnd" w="47520">
            <a:solidFill>
              <a:srgbClr val="ffff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8200"/>
          <p:cNvGrpSpPr/>
          <p:nvPr/>
        </p:nvGrpSpPr>
        <p:grpSpPr>
          <a:xfrm>
            <a:off x="3352680" y="2174760"/>
            <a:ext cx="1523880" cy="339840"/>
            <a:chOff x="3352680" y="2174760"/>
            <a:chExt cx="1523880" cy="339840"/>
          </a:xfrm>
        </p:grpSpPr>
        <p:sp>
          <p:nvSpPr>
            <p:cNvPr id="135" name="直接连接符 8201"/>
            <p:cNvSpPr/>
            <p:nvPr/>
          </p:nvSpPr>
          <p:spPr>
            <a:xfrm>
              <a:off x="3352680" y="25146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文本框 8202"/>
            <p:cNvSpPr/>
            <p:nvPr/>
          </p:nvSpPr>
          <p:spPr>
            <a:xfrm>
              <a:off x="3962160" y="2174760"/>
              <a:ext cx="184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组合 8203"/>
          <p:cNvGrpSpPr/>
          <p:nvPr/>
        </p:nvGrpSpPr>
        <p:grpSpPr>
          <a:xfrm>
            <a:off x="6705720" y="3200400"/>
            <a:ext cx="755640" cy="1066680"/>
            <a:chOff x="6705720" y="3200400"/>
            <a:chExt cx="755640" cy="1066680"/>
          </a:xfrm>
        </p:grpSpPr>
        <p:sp>
          <p:nvSpPr>
            <p:cNvPr id="138" name="直接连接符 8204"/>
            <p:cNvSpPr/>
            <p:nvPr/>
          </p:nvSpPr>
          <p:spPr>
            <a:xfrm>
              <a:off x="6705720" y="3200400"/>
              <a:ext cx="0" cy="106668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文本框 8205"/>
            <p:cNvSpPr/>
            <p:nvPr/>
          </p:nvSpPr>
          <p:spPr>
            <a:xfrm>
              <a:off x="7277400" y="3505320"/>
              <a:ext cx="1839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组合 8206"/>
          <p:cNvGrpSpPr/>
          <p:nvPr/>
        </p:nvGrpSpPr>
        <p:grpSpPr>
          <a:xfrm>
            <a:off x="3563640" y="4292640"/>
            <a:ext cx="1523880" cy="414360"/>
            <a:chOff x="3563640" y="4292640"/>
            <a:chExt cx="1523880" cy="414360"/>
          </a:xfrm>
        </p:grpSpPr>
        <p:sp>
          <p:nvSpPr>
            <p:cNvPr id="141" name="直接连接符 8207"/>
            <p:cNvSpPr/>
            <p:nvPr/>
          </p:nvSpPr>
          <p:spPr>
            <a:xfrm flipH="1">
              <a:off x="3563640" y="47070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文本框 8208"/>
            <p:cNvSpPr/>
            <p:nvPr/>
          </p:nvSpPr>
          <p:spPr>
            <a:xfrm>
              <a:off x="4152240" y="4292640"/>
              <a:ext cx="455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00"/>
                  </a:solidFill>
                  <a:latin typeface="Arial"/>
                  <a:ea typeface="楷体_GB2312"/>
                </a:rPr>
                <a:t>检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右弧形箭头 8209"/>
          <p:cNvSpPr/>
          <p:nvPr/>
        </p:nvSpPr>
        <p:spPr>
          <a:xfrm>
            <a:off x="3200400" y="2666880"/>
            <a:ext cx="2057400" cy="198144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396720 h 1981440"/>
              <a:gd name="textAreaBottom" fmla="*/ 144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2671395"/>
                <a:lnTo>
                  <a:pt x="8149" y="20961"/>
                </a:lnTo>
                <a:lnTo>
                  <a:pt x="0" y="18675"/>
                </a:lnTo>
                <a:lnTo>
                  <a:pt x="8149" y="15111"/>
                </a:lnTo>
                <a:lnTo>
                  <a:pt x="8149" y="16669"/>
                </a:lnTo>
                <a:arcTo wR="21600" hR="8654" stAng="2671395" swAng="-2451365"/>
                <a:lnTo>
                  <a:pt x="21329" y="10021"/>
                </a:lnTo>
                <a:arcTo wR="21600" hR="8654" stAng="-220030" swAng="-5179970"/>
                <a:close/>
              </a:path>
              <a:path fill="darkenLess"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-220030"/>
                <a:lnTo>
                  <a:pt x="21329" y="10021"/>
                </a:lnTo>
                <a:arcTo wR="21600" hR="8654" stAng="-220030" swAng="-5179970"/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文本框 8210"/>
          <p:cNvSpPr/>
          <p:nvPr/>
        </p:nvSpPr>
        <p:spPr>
          <a:xfrm>
            <a:off x="3276720" y="1916280"/>
            <a:ext cx="151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设未知数，列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8211"/>
          <p:cNvSpPr/>
          <p:nvPr/>
        </p:nvSpPr>
        <p:spPr>
          <a:xfrm>
            <a:off x="6635160" y="3141720"/>
            <a:ext cx="673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解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矩形 8212"/>
          <p:cNvSpPr/>
          <p:nvPr/>
        </p:nvSpPr>
        <p:spPr>
          <a:xfrm>
            <a:off x="179280" y="170028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包含不等关系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8213"/>
          <p:cNvSpPr txBox="1"/>
          <p:nvPr/>
        </p:nvSpPr>
        <p:spPr>
          <a:xfrm>
            <a:off x="539640" y="1890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即时小结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8" name="矩形 8214"/>
          <p:cNvSpPr/>
          <p:nvPr/>
        </p:nvSpPr>
        <p:spPr>
          <a:xfrm>
            <a:off x="3802320" y="5753160"/>
            <a:ext cx="3655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不等式解实际问题时，要注意对未知数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限制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文本框 8215"/>
          <p:cNvSpPr/>
          <p:nvPr/>
        </p:nvSpPr>
        <p:spPr>
          <a:xfrm>
            <a:off x="1547640" y="5805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9217"/>
          <p:cNvSpPr/>
          <p:nvPr/>
        </p:nvSpPr>
        <p:spPr>
          <a:xfrm>
            <a:off x="1332000" y="476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Arial"/>
              </a:rPr>
              <a:t>慢羊羊村长组织了一次知识竞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图片 9218" descr="慢羊羊村长"/>
          <p:cNvPicPr/>
          <p:nvPr/>
        </p:nvPicPr>
        <p:blipFill>
          <a:blip r:embed="rId1"/>
          <a:stretch/>
        </p:blipFill>
        <p:spPr>
          <a:xfrm>
            <a:off x="250920" y="1268280"/>
            <a:ext cx="2879640" cy="3673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9219" descr="喜洋洋"/>
          <p:cNvPicPr/>
          <p:nvPr/>
        </p:nvPicPr>
        <p:blipFill>
          <a:blip r:embed="rId2"/>
          <a:stretch/>
        </p:blipFill>
        <p:spPr>
          <a:xfrm>
            <a:off x="6012000" y="2421000"/>
            <a:ext cx="2958840" cy="3889440"/>
          </a:xfrm>
          <a:prstGeom prst="rect">
            <a:avLst/>
          </a:prstGeom>
          <a:ln w="0">
            <a:noFill/>
          </a:ln>
        </p:spPr>
      </p:pic>
      <p:sp>
        <p:nvSpPr>
          <p:cNvPr id="153" name="椭圆形标注 9220"/>
          <p:cNvSpPr/>
          <p:nvPr/>
        </p:nvSpPr>
        <p:spPr>
          <a:xfrm>
            <a:off x="2411280" y="1197000"/>
            <a:ext cx="3961080" cy="1440000"/>
          </a:xfrm>
          <a:prstGeom prst="wedgeEllipseCallout">
            <a:avLst>
              <a:gd name="adj1" fmla="val -47675"/>
              <a:gd name="adj2" fmla="val 6697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共有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道题，每一题答对得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分，答错或不答都扣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9221"/>
          <p:cNvGrpSpPr/>
          <p:nvPr/>
        </p:nvGrpSpPr>
        <p:grpSpPr>
          <a:xfrm>
            <a:off x="4033080" y="2669400"/>
            <a:ext cx="2949120" cy="2671560"/>
            <a:chOff x="4033080" y="2669400"/>
            <a:chExt cx="2949120" cy="2671560"/>
          </a:xfrm>
        </p:grpSpPr>
        <p:sp>
          <p:nvSpPr>
            <p:cNvPr id="155" name="云形标注 9222"/>
            <p:cNvSpPr/>
            <p:nvPr/>
          </p:nvSpPr>
          <p:spPr>
            <a:xfrm rot="12910200">
              <a:off x="4211280" y="3284280"/>
              <a:ext cx="2592360" cy="1441440"/>
            </a:xfrm>
            <a:prstGeom prst="cloudCallout">
              <a:avLst>
                <a:gd name="adj1" fmla="val -60157"/>
                <a:gd name="adj2" fmla="val 25143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文本框 9223"/>
            <p:cNvSpPr/>
            <p:nvPr/>
          </p:nvSpPr>
          <p:spPr>
            <a:xfrm rot="928800">
              <a:off x="4284360" y="3861000"/>
              <a:ext cx="25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我要超过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90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分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文本框 9224"/>
          <p:cNvSpPr/>
          <p:nvPr/>
        </p:nvSpPr>
        <p:spPr>
          <a:xfrm>
            <a:off x="611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：喜羊羊至少要答对多少道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0241"/>
          <p:cNvSpPr/>
          <p:nvPr/>
        </p:nvSpPr>
        <p:spPr>
          <a:xfrm>
            <a:off x="684360" y="83664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慢羊羊村长组织了一场知识竞赛，共有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道题，每一题答对得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分，答错或不答都扣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分。喜羊羊得分要超过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分，他至少要答对多少道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文本框 10242"/>
          <p:cNvSpPr/>
          <p:nvPr/>
        </p:nvSpPr>
        <p:spPr>
          <a:xfrm>
            <a:off x="468360" y="249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喜羊羊答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道题，则他答错或不答的题数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文本框 10243"/>
          <p:cNvSpPr/>
          <p:nvPr/>
        </p:nvSpPr>
        <p:spPr>
          <a:xfrm>
            <a:off x="1332000" y="31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文本框 10244"/>
          <p:cNvSpPr/>
          <p:nvPr/>
        </p:nvSpPr>
        <p:spPr>
          <a:xfrm>
            <a:off x="1476360" y="3789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文本框 10245"/>
          <p:cNvSpPr/>
          <p:nvPr/>
        </p:nvSpPr>
        <p:spPr>
          <a:xfrm>
            <a:off x="1619280" y="4365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10246"/>
          <p:cNvSpPr/>
          <p:nvPr/>
        </p:nvSpPr>
        <p:spPr>
          <a:xfrm>
            <a:off x="2556000" y="49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10247"/>
          <p:cNvSpPr/>
          <p:nvPr/>
        </p:nvSpPr>
        <p:spPr>
          <a:xfrm>
            <a:off x="755640" y="5589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是                而且不能超过       ，所以喜羊羊至少要答对      道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10248"/>
          <p:cNvGrpSpPr/>
          <p:nvPr/>
        </p:nvGrpSpPr>
        <p:grpSpPr>
          <a:xfrm>
            <a:off x="3059280" y="4797360"/>
            <a:ext cx="865080" cy="799200"/>
            <a:chOff x="3059280" y="4797360"/>
            <a:chExt cx="865080" cy="799200"/>
          </a:xfrm>
        </p:grpSpPr>
        <p:grpSp>
          <p:nvGrpSpPr>
            <p:cNvPr id="166" name="组合 10249"/>
            <p:cNvGrpSpPr/>
            <p:nvPr/>
          </p:nvGrpSpPr>
          <p:grpSpPr>
            <a:xfrm>
              <a:off x="3564000" y="4797360"/>
              <a:ext cx="360360" cy="799200"/>
              <a:chOff x="3564000" y="4797360"/>
              <a:chExt cx="360360" cy="799200"/>
            </a:xfrm>
          </p:grpSpPr>
          <p:grpSp>
            <p:nvGrpSpPr>
              <p:cNvPr id="167" name="组合 10250"/>
              <p:cNvGrpSpPr/>
              <p:nvPr/>
            </p:nvGrpSpPr>
            <p:grpSpPr>
              <a:xfrm>
                <a:off x="3564000" y="4797360"/>
                <a:ext cx="360360" cy="799200"/>
                <a:chOff x="3564000" y="4797360"/>
                <a:chExt cx="360360" cy="799200"/>
              </a:xfrm>
            </p:grpSpPr>
            <p:sp>
              <p:nvSpPr>
                <p:cNvPr id="168" name="文本框 10251"/>
                <p:cNvSpPr/>
                <p:nvPr/>
              </p:nvSpPr>
              <p:spPr>
                <a:xfrm>
                  <a:off x="3564000" y="47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文本框 10252"/>
                <p:cNvSpPr/>
                <p:nvPr/>
              </p:nvSpPr>
              <p:spPr>
                <a:xfrm>
                  <a:off x="3564000" y="5136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直接连接符 10253"/>
              <p:cNvSpPr/>
              <p:nvPr/>
            </p:nvSpPr>
            <p:spPr>
              <a:xfrm>
                <a:off x="3564000" y="517356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文本框 10254"/>
            <p:cNvSpPr/>
            <p:nvPr/>
          </p:nvSpPr>
          <p:spPr>
            <a:xfrm>
              <a:off x="3059280" y="4941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文本框 10255"/>
          <p:cNvSpPr/>
          <p:nvPr/>
        </p:nvSpPr>
        <p:spPr>
          <a:xfrm>
            <a:off x="2050920" y="5589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正整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文本框 10256"/>
          <p:cNvSpPr/>
          <p:nvPr/>
        </p:nvSpPr>
        <p:spPr>
          <a:xfrm>
            <a:off x="5148360" y="5589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文本框 10257"/>
          <p:cNvSpPr/>
          <p:nvPr/>
        </p:nvSpPr>
        <p:spPr>
          <a:xfrm>
            <a:off x="1403280" y="5950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1265" descr="xiyangyang"/>
          <p:cNvPicPr/>
          <p:nvPr/>
        </p:nvPicPr>
        <p:blipFill>
          <a:blip r:embed="rId1"/>
          <a:stretch/>
        </p:blipFill>
        <p:spPr>
          <a:xfrm>
            <a:off x="324000" y="1197000"/>
            <a:ext cx="3743280" cy="4968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266" descr="huitailang"/>
          <p:cNvPicPr/>
          <p:nvPr/>
        </p:nvPicPr>
        <p:blipFill>
          <a:blip r:embed="rId2"/>
          <a:stretch/>
        </p:blipFill>
        <p:spPr>
          <a:xfrm>
            <a:off x="4500720" y="1197000"/>
            <a:ext cx="3887640" cy="496872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1267"/>
          <p:cNvSpPr/>
          <p:nvPr/>
        </p:nvSpPr>
        <p:spPr>
          <a:xfrm>
            <a:off x="3564000" y="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V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2289" descr="炮弹3"/>
          <p:cNvPicPr/>
          <p:nvPr/>
        </p:nvPicPr>
        <p:blipFill>
          <a:blip r:embed="rId1"/>
          <a:stretch/>
        </p:blipFill>
        <p:spPr>
          <a:xfrm>
            <a:off x="684360" y="119700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2290" descr="炮弹"/>
          <p:cNvPicPr/>
          <p:nvPr/>
        </p:nvPicPr>
        <p:blipFill>
          <a:blip r:embed="rId2"/>
          <a:stretch/>
        </p:blipFill>
        <p:spPr>
          <a:xfrm>
            <a:off x="5651640" y="1197000"/>
            <a:ext cx="2592360" cy="208764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2291"/>
          <p:cNvSpPr/>
          <p:nvPr/>
        </p:nvSpPr>
        <p:spPr>
          <a:xfrm>
            <a:off x="539640" y="35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燃导火线后要在爆炸前跑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m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以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安全区域。导火线燃烧速度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cm/s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喜羊羊快跑的速度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m/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同学们帮助喜羊羊算一算：导火线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多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文本框 12292"/>
          <p:cNvSpPr/>
          <p:nvPr/>
        </p:nvSpPr>
        <p:spPr>
          <a:xfrm>
            <a:off x="611280" y="692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喜羊羊研制了一种对付灰太狼的武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文本框 12293"/>
          <p:cNvSpPr/>
          <p:nvPr/>
        </p:nvSpPr>
        <p:spPr>
          <a:xfrm>
            <a:off x="684360" y="4797360"/>
            <a:ext cx="59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导火线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c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文本框 12294"/>
          <p:cNvSpPr/>
          <p:nvPr/>
        </p:nvSpPr>
        <p:spPr>
          <a:xfrm>
            <a:off x="493236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得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组合 12295"/>
          <p:cNvGrpSpPr/>
          <p:nvPr/>
        </p:nvGrpSpPr>
        <p:grpSpPr>
          <a:xfrm>
            <a:off x="2987640" y="5013360"/>
            <a:ext cx="1728360" cy="1055160"/>
            <a:chOff x="2987640" y="5013360"/>
            <a:chExt cx="1728360" cy="1055160"/>
          </a:xfrm>
        </p:grpSpPr>
        <p:pic>
          <p:nvPicPr>
            <p:cNvPr id="185" name="图片 12296" descr=""/>
            <p:cNvPicPr/>
            <p:nvPr/>
          </p:nvPicPr>
          <p:blipFill>
            <a:blip r:embed="rId3"/>
            <a:stretch/>
          </p:blipFill>
          <p:spPr>
            <a:xfrm>
              <a:off x="3942000" y="5091480"/>
              <a:ext cx="774000" cy="9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12297" descr=""/>
            <p:cNvPicPr/>
            <p:nvPr/>
          </p:nvPicPr>
          <p:blipFill>
            <a:blip r:embed="rId4"/>
            <a:stretch/>
          </p:blipFill>
          <p:spPr>
            <a:xfrm>
              <a:off x="2987640" y="5013360"/>
              <a:ext cx="69840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12298"/>
            <p:cNvSpPr/>
            <p:nvPr/>
          </p:nvSpPr>
          <p:spPr>
            <a:xfrm>
              <a:off x="3544200" y="5399640"/>
              <a:ext cx="5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文本框 12299"/>
          <p:cNvSpPr/>
          <p:nvPr/>
        </p:nvSpPr>
        <p:spPr>
          <a:xfrm>
            <a:off x="684360" y="595008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导火线要大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c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图片 12300" descr="点火1"/>
          <p:cNvPicPr/>
          <p:nvPr/>
        </p:nvPicPr>
        <p:blipFill>
          <a:blip r:embed="rId5"/>
          <a:stretch/>
        </p:blipFill>
        <p:spPr>
          <a:xfrm>
            <a:off x="3492360" y="1197000"/>
            <a:ext cx="2016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6:30Z</dcterms:created>
  <dc:creator>  </dc:creator>
  <dc:description> </dc:description>
  <dc:language>en-US</dc:language>
  <cp:lastModifiedBy>Administrator</cp:lastModifiedBy>
  <dcterms:modified xsi:type="dcterms:W3CDTF">2018-12-28T07:59:37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